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8F89-7E8A-4462-90CC-CA19FF9553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E54E-3E37-43BB-908C-380FF45D2AC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621E-E70F-4FF6-BCEC-ADFFA26EB923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A20-D823-43D0-9A6F-1007433F24BE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C0D6-A6C7-4297-B83F-1676D48EC29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5A09-9AD1-470B-A465-A41BDC8DC31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5283-5EEC-48C3-8186-E83CEE5A535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1F82-79B6-4851-9AD6-F0FDE62F5FD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A267-A45D-494D-9504-95CBEF58F1C3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C438-7FF5-4FBB-826F-AB1783C6CA7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7F06-3B25-4BF5-A27F-BDB3BC7113B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9A67-F096-4632-AC89-42CEB554C20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5332-5D1B-4882-8135-D70B8487ED1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A07C-8B77-4482-8196-C0AFFE7C1A3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0D1D-BC0D-4D0D-8A97-A44CDE8AE4A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76B7-A0E1-4CE8-8EC9-EC08CA9DA07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BF72-1E26-4642-AFEE-9A7F74C4395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60B0-B880-4D5B-B48B-D0EE9F80C79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8666-3F57-40F9-BBD0-A109460E002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7E6D-36D7-4D81-A153-59A64D38C6D1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17B-9EDE-4C2B-A09E-3C4409EC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906-A77B-4BC1-93EE-99F4E09F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7A4-5E64-428A-9E17-78F66B16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2DF-7F40-4EC9-9CD0-2FC8D2E9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7586-7E7A-461F-A999-F67D80A9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A734-A6E5-4072-98C6-D16EC1CD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61A9-316E-4F09-A9D3-1A574590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3601-9CC0-41C0-B055-1EB5052F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C437-B064-44D0-8F55-92BB6BDC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75F2-A4B7-42B5-A457-B3B747B6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E1EA-6712-4E81-BE73-74388D30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465-1D9C-4AE0-9CE0-BE33BB69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733F-C138-432B-BD49-C085D162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84E6-8013-4DC3-B25C-1CD45D5A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C09D-308E-44AA-9636-B16FA4C7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C05E-732E-4211-BA48-473FF535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874D-DBFA-40E0-AC2A-A2F37F93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9F1-7F1C-4D08-BE05-A52A631C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5BA-1675-4CEB-AD5D-FD1C54E9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A11-F1BA-4BDF-8D5E-6D50B914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C91-0E88-4192-BC97-4DDFA5CB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1B1-2CFB-498A-92B0-911BCACF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37D-7AAB-4918-92B7-C742495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374-9204-4CA6-B59D-8DB67E11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8125-8A08-41D1-BC1D-E93BAA31A30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FEDC-DFFD-4630-ACB1-5980EB27966C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oblomov.omsk.edu/win/geroi/oblomov" TargetMode="External"/><Relationship Id="rId3" Type="http://schemas.openxmlformats.org/officeDocument/2006/relationships/hyperlink" Target="http://oblomov.omsk.edu/win/geroi/shtol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2680" y="1356840"/>
            <a:ext cx="6234120" cy="16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2f00"/>
                </a:solidFill>
                <a:latin typeface="Times New Roman"/>
              </a:rPr>
              <a:t>ОБЛОМОВ И ШТОЛЬЦ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5" descr="BS00554_"/>
          <p:cNvPicPr/>
          <p:nvPr/>
        </p:nvPicPr>
        <p:blipFill>
          <a:blip r:embed="rId1"/>
          <a:stretch/>
        </p:blipFill>
        <p:spPr>
          <a:xfrm>
            <a:off x="6156360" y="4508640"/>
            <a:ext cx="2376360" cy="207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95280" y="189000"/>
          <a:ext cx="8569440" cy="6476760"/>
        </p:xfrm>
        <a:graphic>
          <a:graphicData uri="http://schemas.openxmlformats.org/drawingml/2006/table">
            <a:tbl>
              <a:tblPr/>
              <a:tblGrid>
                <a:gridCol w="4286160"/>
                <a:gridCol w="4283280"/>
              </a:tblGrid>
              <a:tr h="1330560"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оспитание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433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Я – барин, и делать      ничего не умею.”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ка-идеал жизни. Любовь и        ласка родных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трудовое, практи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ческое воспитание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некому благос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ить”; возможность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самостоятельно определить свою дорогу жиз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56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Антипод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836640"/>
          <a:ext cx="9144000" cy="5769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Цель жизни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6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оэтический идеал жизни;” цель была -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вся жизнь есть мысль и труд”;   Сейчас:”Какая у меня цель? Нет её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руд-цель жизни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жизнь Штольца с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очки зрения Об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мова :”ежедневна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устая перетасовка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ней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2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798480"/>
          <a:ext cx="9144000" cy="6059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3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держание деятельности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ставление плана переустройства поместья; “вулканическая работа пылкой головы”;  “не привык к движению.”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Лишних движений у него не было”;”ехал посидеть на широком диване Обломова и отвести и успокоить встревоженную или усталую душу…”пустая су-ета, в итоге-“как будто жил вторично</a:t>
                      </a:r>
                      <a:r>
                        <a:rPr b="0" lang="en-US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6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Двойник в большей степе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692280"/>
          <a:ext cx="9144000" cy="5976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тношение к женщине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е был их рабом, поклонялся издали”;”признавал е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власть и права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женщина-мать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икогда - любовница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Сама жизнь и труд есть цель жизни, а не женщина”;”он не хотел бы порывистой страсти, как не хотел её Обломов”; “ему грезилась мать - созида-тельница”; “не был рабом, не испытывал огненных радостей</a:t>
                      </a:r>
                      <a:r>
                        <a:rPr b="0" lang="en-US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.</a:t>
                      </a:r>
                      <a:endParaRPr b="0" lang="en-US" sz="2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0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Семейная жизнь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Жена, дети, добрые соседи, хлопоты по хозяйству – это в мечтах; “ему некуда больше идти, нечего искать, идеал его жизни осуществился, хотя без поэзии”-жизнь с Пшеницыной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астала и тишина,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улеглись и порывы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сё как мечтал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.” Устроенный Штольцем тихий уголок на крымском берегу напоминает старую Обломовку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728640"/>
          <a:ext cx="9144000" cy="6129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Жизненная позиция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“…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уша не рвётся, ум спит спокойно.</a:t>
                      </a:r>
                      <a:r>
                        <a:rPr b="0" lang="en-US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мы не титаны…мы не пойдём на дерзкую борьбу с мятежными вопросами, не примем их вызова, склоним головы и  смиренно переживем трудную минуту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Линия отношений Обломова и Штольца (в форме графика)"/>
          <p:cNvPicPr/>
          <p:nvPr/>
        </p:nvPicPr>
        <p:blipFill>
          <a:blip r:embed="rId1"/>
          <a:stretch/>
        </p:blipFill>
        <p:spPr>
          <a:xfrm>
            <a:off x="2195640" y="836640"/>
            <a:ext cx="4752720" cy="30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547640" y="3933720"/>
          <a:ext cx="6840720" cy="2743200"/>
        </p:xfrm>
        <a:graphic>
          <a:graphicData uri="http://schemas.openxmlformats.org/drawingml/2006/table">
            <a:tbl>
              <a:tblPr/>
              <a:tblGrid>
                <a:gridCol w="2279880"/>
                <a:gridCol w="2281320"/>
                <a:gridCol w="2279520"/>
              </a:tblGrid>
              <a:tr h="36828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Обломов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Штольц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146556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обрый, мягки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гостеприи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чувствительный, чутки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Ленив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Откровенный, холод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активный, разу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сдержанны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еятельн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916920"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Идеальным человеком принято считать того, у кого доминирующие качества не слишком ярко выражены (не доставляют проблем окружающим).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3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10920" y="691920"/>
            <a:ext cx="81565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бломов и Штольц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— люди с разным мировосприятием, а следовательно, и разными судьбами. Главное их отличие в том, что деятельный, энергичный Штольц сумел правильно распорядиться своей жизнью и природными талантами, пытаясь «донести сосуд жизни до последнего дня, не пролив ни одной капли напрасно». А у мягкого, доверчивого Обломова не хватало силы воли противостоять трудностям жизни и отстаивать свое право на существование и самореализацию. Он «свое уменье затерял еще в детстве, в Обломовке, среди теток, нянек и дядек. Началось с неуменья надевать чулки и кончилось неуменьем жить»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2" descr="Кадр из фильма А. А. Адабашьяна и Н. С. Михалкова «Несколько дней из жизни И. И. Обломова». 1979-80"/>
          <p:cNvPicPr/>
          <p:nvPr/>
        </p:nvPicPr>
        <p:blipFill>
          <a:blip r:embed="rId1"/>
          <a:stretch/>
        </p:blipFill>
        <p:spPr>
          <a:xfrm>
            <a:off x="2627280" y="378936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1267920"/>
            <a:ext cx="8370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Вывод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ломов и Штольц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это два человека, которые друг без друга существовать не могут. Они дополняют друг друга своими как отрицательными, как и положительными качествами. Их судьбы похожи, они не могут найти свое место в жизн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640" y="907560"/>
            <a:ext cx="77724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“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Штольц на высокой ступени своей активной жизни оказывался тем же Обломовым…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n-US" sz="4800" spc="-1" strike="noStrike">
                <a:solidFill>
                  <a:srgbClr val="a40400"/>
                </a:solidFill>
                <a:latin typeface="Times New Roman"/>
              </a:rPr>
              <a:t>(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Я.И.Кулешов.)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ыяснить причины столь крепкой дружбы между двумя совершенно противоположными героям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ать описание главных героев романа И.А. Гончарова «Обломов»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айти различные и схожие черты этих героев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ставить схему взаимоотношений Обломова и Штольца на протяжении развития действия  роман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лья Ильич Облом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816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мещик, дворянин, живущий в Петербурге. Ведёт ленивый образ жизни, не занимаясь ничем, кроме рассуждени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Жизнь есть поэзия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Кого не любишь, кто не хорош, с тем не обмакнёшь хлеба в солонк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Всё знаю, всё понимаю - но силы и воли нет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Трудно быть умным и искренним в одно время, особенно в чувств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Страсть надо ограничить: задушить и утопить в женитьб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280" y="907920"/>
            <a:ext cx="81550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рожить жизнь счастливо; так, чтобы она “не трогала”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Восприятие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колеблющееся — от “приятного дара для наслаждения” до “пристает как забияки: то ущипнет исподтишка, то вдруг нагрянет прямо со лба и обсыплет песком… мочи нет!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Принципы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елать, что душа и сердце пожелает, даже если разум против; никогда не утруждатьс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Любовь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Никогда не была главной в его жизни, даже в истории с Ольгой она быстро угасл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Дружба.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Еще в юности “холодно простился с толпой друзей”. Есть знакомые, но нет ни одного настоящего друга, кроме Штольц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тношения с окружающими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Мало кому известен, имеет очень узкий круг общения. Сам практически никого не знает. Тем не менее, имеет знакомых, пытающихся вытащить его в свет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Больше всего боялся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всего трудного и труднодостижимого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www.stihi.ru/pics/2010/05/08/4169.jpg"/>
          <p:cNvPicPr/>
          <p:nvPr/>
        </p:nvPicPr>
        <p:blipFill>
          <a:blip r:embed="rId1"/>
          <a:stretch/>
        </p:blipFill>
        <p:spPr>
          <a:xfrm>
            <a:off x="4356000" y="2637000"/>
            <a:ext cx="4530960" cy="400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www.libvrn.ru/OZ/Graphic/book/01_2.jpg"/>
          <p:cNvPicPr/>
          <p:nvPr/>
        </p:nvPicPr>
        <p:blipFill>
          <a:blip r:embed="rId2"/>
          <a:stretch/>
        </p:blipFill>
        <p:spPr>
          <a:xfrm>
            <a:off x="250920" y="1052640"/>
            <a:ext cx="4189320" cy="58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proza.ru/pics/2009/05/06/855.jpg"/>
          <p:cNvPicPr/>
          <p:nvPr/>
        </p:nvPicPr>
        <p:blipFill>
          <a:blip r:embed="rId3"/>
          <a:stretch/>
        </p:blipFill>
        <p:spPr>
          <a:xfrm>
            <a:off x="0" y="0"/>
            <a:ext cx="555480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www.taday.ru/data/170/641/1234/19390_Oblomov_CD2_02.jpg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5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Штольц Андрей Иванович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915920"/>
            <a:ext cx="8137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руг детства Обломова, наполовину немец, практичный и деятельны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Это не жизнь, это какая-то... обломовщина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 (ч.2, гл.4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Труд - образ, содержание, стихия и цель жизни. По крайней мере, мое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“труд — образ, содержание, стихия и цель жизни, по крайней мере моей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Восприятие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жизнь — счастье в труде; жизнь без работы — не жизнь; «…“жизнь трогает!” “И слава богу!” — сказал Штольц»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Принципы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иметь “простой, то есть прямой, настоящий взгляд на жизнь — вот что было его постоянною задачею…”,“Выше всего он ставил настойчивость в достижении целей…”, “…измерит бездну или стену, и если нет верного средства одолеть, он отойдет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Любовь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Штольц любил не сердцем, а разумом, в каждом движении души и сердца искал рациональное объяснение. Поэтому и в молодости “среди увлечения чувствовал землю под ногой”, так как везде искал ум, а не страсть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Дружба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Друзей у Штольца всегда и везде было много — люди тянулись к нему. Но он чувствовал близость только к людям-личностям, искренним и порядочным. Действительно, настоящих друзей, таких как Илья Ильич и Ольга Сергеевна, у него было не так уж и много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Отношения с окружающими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Все знают его, он знает всех. Он никого не оставляет к себе равнодушным — его или уважают и ценят или боятся и ненавидят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Больше всего боялся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того, что ему непонятно или недоступно, и всячески обходил это: от страстей до воображения; но при любом подходящем случае пытался найти ключ к этому, пока непостижимому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ttp://live4fun.ru/pictures/img_37744038_8558_1.jpg"/>
          <p:cNvPicPr/>
          <p:nvPr/>
        </p:nvPicPr>
        <p:blipFill>
          <a:blip r:embed="rId1"/>
          <a:stretch/>
        </p:blipFill>
        <p:spPr>
          <a:xfrm>
            <a:off x="4335480" y="0"/>
            <a:ext cx="480852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www.ljplus.ru/img4/p/i/pics3000/Oblomov-2.avi_snapshot_00.52.38__2010.11.30_23.21.10_.jpg"/>
          <p:cNvPicPr/>
          <p:nvPr/>
        </p:nvPicPr>
        <p:blipFill>
          <a:blip r:embed="rId2"/>
          <a:stretch/>
        </p:blipFill>
        <p:spPr>
          <a:xfrm>
            <a:off x="4227480" y="3141720"/>
            <a:ext cx="4916520" cy="371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mg.labirint.ru/images/news/5541_1279280583.jpg"/>
          <p:cNvPicPr/>
          <p:nvPr/>
        </p:nvPicPr>
        <p:blipFill>
          <a:blip r:embed="rId3"/>
          <a:stretch/>
        </p:blipFill>
        <p:spPr>
          <a:xfrm>
            <a:off x="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Alexsandrit</cp:lastModifiedBy>
  <dcterms:modified xsi:type="dcterms:W3CDTF">2014-01-17T22:39:35Z</dcterms:modified>
  <cp:revision>30</cp:revision>
  <dc:subject/>
  <dc:title>ОБЛОМОВ И ШТОЛЬЦ</dc:title>
</cp:coreProperties>
</file>